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7.png" ContentType="image/png"/>
  <Override PartName="/ppt/media/image20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9.png" ContentType="image/png"/>
  <Override PartName="/ppt/media/image33.wmf" ContentType="image/x-wmf"/>
  <Override PartName="/ppt/media/image37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gif" ContentType="image/gif"/>
  <Override PartName="/ppt/media/image18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8A7-7362-42D8-B7FA-63843B94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163-816E-47FA-A1A7-B47AB6A3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FB5-1F15-4614-BA03-C169D597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51F-6759-4D20-9FB5-66EBCE66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4BD-45D4-4EB5-B941-66DBD66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36A-5C44-4CE7-B893-D0FC2037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466-55CE-4E4B-8E79-5CDBBAC4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F68-8D66-4151-AF96-111BB77D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573-B167-4DB1-BC7E-4DC7774A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CB0-8D2C-4EDB-B5E8-92A50EF9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6AF-46E1-4D57-8625-852AE221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E7B-D2A5-4A33-9232-266C30A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3DAF-7A1B-4B77-A421-EC914EFEB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10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" Target="slide9.xml"/><Relationship Id="rId5" Type="http://schemas.openxmlformats.org/officeDocument/2006/relationships/image" Target="../media/image12.png"/><Relationship Id="rId6" Type="http://schemas.openxmlformats.org/officeDocument/2006/relationships/slide" Target="slide10.xml"/><Relationship Id="rId7" Type="http://schemas.openxmlformats.org/officeDocument/2006/relationships/image" Target="../media/image7.png"/><Relationship Id="rId8" Type="http://schemas.openxmlformats.org/officeDocument/2006/relationships/package" Target="../embeddings/oleObject1.docx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0.xml"/><Relationship Id="rId3" Type="http://schemas.openxmlformats.org/officeDocument/2006/relationships/image" Target="../media/image18.png"/><Relationship Id="rId4" Type="http://schemas.openxmlformats.org/officeDocument/2006/relationships/slide" Target="slide10.xml"/><Relationship Id="rId5" Type="http://schemas.openxmlformats.org/officeDocument/2006/relationships/image" Target="../media/image19.png"/><Relationship Id="rId6" Type="http://schemas.openxmlformats.org/officeDocument/2006/relationships/slide" Target="slide10.xml"/><Relationship Id="rId7" Type="http://schemas.openxmlformats.org/officeDocument/2006/relationships/image" Target="../media/image20.png"/><Relationship Id="rId8" Type="http://schemas.openxmlformats.org/officeDocument/2006/relationships/slide" Target="slide9.xml"/><Relationship Id="rId9" Type="http://schemas.openxmlformats.org/officeDocument/2006/relationships/image" Target="../media/image21.png"/><Relationship Id="rId10" Type="http://schemas.openxmlformats.org/officeDocument/2006/relationships/package" Target="../embeddings/oleObject1.docx"/><Relationship Id="rId11" Type="http://schemas.openxmlformats.org/officeDocument/2006/relationships/image" Target="../media/image22.wmf"/><Relationship Id="rId12" Type="http://schemas.openxmlformats.org/officeDocument/2006/relationships/package" Target="../embeddings/oleObject2.docx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9.xml"/><Relationship Id="rId3" Type="http://schemas.openxmlformats.org/officeDocument/2006/relationships/package" Target="../embeddings/oleObject1.docx"/><Relationship Id="rId4" Type="http://schemas.openxmlformats.org/officeDocument/2006/relationships/image" Target="../media/image25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3.wmf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2073240"/>
            <a:ext cx="778968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4071960" y="500040"/>
            <a:ext cx="1566720" cy="920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owl"/>
          <p:cNvPicPr/>
          <p:nvPr/>
        </p:nvPicPr>
        <p:blipFill>
          <a:blip r:embed="rId3"/>
          <a:stretch/>
        </p:blipFill>
        <p:spPr>
          <a:xfrm>
            <a:off x="3214800" y="3000240"/>
            <a:ext cx="292896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13"/>
          <p:cNvGrpSpPr/>
          <p:nvPr/>
        </p:nvGrpSpPr>
        <p:grpSpPr>
          <a:xfrm>
            <a:off x="3071880" y="1214280"/>
            <a:ext cx="3499560" cy="4428720"/>
            <a:chOff x="3071880" y="1214280"/>
            <a:chExt cx="3499560" cy="4428720"/>
          </a:xfrm>
        </p:grpSpPr>
        <p:pic>
          <p:nvPicPr>
            <p:cNvPr id="111" name="Picture 111" descr="professor4"/>
            <p:cNvPicPr/>
            <p:nvPr/>
          </p:nvPicPr>
          <p:blipFill>
            <a:blip r:embed="rId1"/>
            <a:stretch/>
          </p:blipFill>
          <p:spPr>
            <a:xfrm>
              <a:off x="3071880" y="1820160"/>
              <a:ext cx="331668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WordArt 112"/>
            <p:cNvSpPr txBox="1"/>
            <p:nvPr/>
          </p:nvSpPr>
          <p:spPr>
            <a:xfrm>
              <a:off x="3387600" y="1214280"/>
              <a:ext cx="3183840" cy="819720"/>
            </a:xfrm>
            <a:prstGeom prst="rect">
              <a:avLst/>
            </a:prstGeom>
          </p:spPr>
          <p:txBody>
            <a:bodyPr wrap="none" fromWordArt="1" lIns="90000" rIns="90000" tIns="46800" bIns="46800" anchor="t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3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8101080" y="6215040"/>
            <a:ext cx="1042920" cy="642960"/>
          </a:xfrm>
          <a:custGeom>
            <a:avLst/>
            <a:gdLst>
              <a:gd name="textAreaLeft" fmla="*/ 41400 w 1042920"/>
              <a:gd name="textAreaRight" fmla="*/ 1001520 w 1042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0508" y="7493"/>
                </a:moveTo>
                <a:lnTo>
                  <a:pt x="14016" y="7493"/>
                </a:lnTo>
                <a:lnTo>
                  <a:pt x="14016" y="12828"/>
                </a:lnTo>
                <a:cubicBezTo>
                  <a:pt x="14016" y="13751"/>
                  <a:pt x="14816" y="14482"/>
                  <a:pt x="15852" y="14482"/>
                </a:cubicBezTo>
                <a:lnTo>
                  <a:pt x="17514" y="14482"/>
                </a:lnTo>
                <a:cubicBezTo>
                  <a:pt x="18550" y="14482"/>
                  <a:pt x="19351" y="13751"/>
                  <a:pt x="19351" y="12828"/>
                </a:cubicBezTo>
                <a:lnTo>
                  <a:pt x="19351" y="7493"/>
                </a:lnTo>
                <a:lnTo>
                  <a:pt x="17514" y="7493"/>
                </a:lnTo>
                <a:lnTo>
                  <a:pt x="21022" y="3985"/>
                </a:lnTo>
                <a:lnTo>
                  <a:pt x="24695" y="7493"/>
                </a:lnTo>
                <a:lnTo>
                  <a:pt x="22859" y="7493"/>
                </a:lnTo>
                <a:lnTo>
                  <a:pt x="22859" y="12828"/>
                </a:lnTo>
                <a:cubicBezTo>
                  <a:pt x="22859" y="15596"/>
                  <a:pt x="20282" y="18155"/>
                  <a:pt x="17514" y="18155"/>
                </a:cubicBezTo>
                <a:lnTo>
                  <a:pt x="15852" y="18155"/>
                </a:lnTo>
                <a:cubicBezTo>
                  <a:pt x="13084" y="18155"/>
                  <a:pt x="10508" y="15596"/>
                  <a:pt x="10508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4" descr=""/>
          <p:cNvPicPr/>
          <p:nvPr/>
        </p:nvPicPr>
        <p:blipFill>
          <a:blip r:embed="rId1"/>
          <a:stretch/>
        </p:blipFill>
        <p:spPr>
          <a:xfrm>
            <a:off x="2425680" y="1359000"/>
            <a:ext cx="3614760" cy="199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3"/>
          <p:cNvGraphicFramePr/>
          <p:nvPr/>
        </p:nvGraphicFramePr>
        <p:xfrm>
          <a:off x="3143160" y="3214800"/>
          <a:ext cx="2214720" cy="248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3160" y="3214800"/>
                    <a:ext cx="221472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Box 6"/>
          <p:cNvSpPr/>
          <p:nvPr/>
        </p:nvSpPr>
        <p:spPr>
          <a:xfrm>
            <a:off x="5441040" y="5715000"/>
            <a:ext cx="34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БОУ «Комсомольская СОШ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: Киреева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1"/>
          <a:stretch/>
        </p:blipFill>
        <p:spPr>
          <a:xfrm>
            <a:off x="-60480" y="-42840"/>
            <a:ext cx="9264960" cy="89064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760" y="1285920"/>
            <a:ext cx="714240" cy="9208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22" descr=""/>
          <p:cNvPicPr/>
          <p:nvPr/>
        </p:nvPicPr>
        <p:blipFill>
          <a:blip r:embed="rId4"/>
          <a:stretch/>
        </p:blipFill>
        <p:spPr>
          <a:xfrm>
            <a:off x="841320" y="914400"/>
            <a:ext cx="8089920" cy="1852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60360" y="5145120"/>
            <a:ext cx="712800" cy="920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3143160" y="3500280"/>
            <a:ext cx="57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vveden1_2"/>
          <p:cNvPicPr/>
          <p:nvPr/>
        </p:nvPicPr>
        <p:blipFill>
          <a:blip r:embed="rId7"/>
          <a:stretch/>
        </p:blipFill>
        <p:spPr>
          <a:xfrm>
            <a:off x="3517920" y="2714760"/>
            <a:ext cx="155412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4929120" y="2714760"/>
            <a:ext cx="57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571920" y="257184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26"/>
          <p:cNvGrpSpPr/>
          <p:nvPr/>
        </p:nvGrpSpPr>
        <p:grpSpPr>
          <a:xfrm>
            <a:off x="785880" y="4786200"/>
            <a:ext cx="7650000" cy="1568520"/>
            <a:chOff x="785880" y="4786200"/>
            <a:chExt cx="7650000" cy="1568520"/>
          </a:xfrm>
        </p:grpSpPr>
        <p:sp>
          <p:nvSpPr>
            <p:cNvPr id="54" name="Нашивка 27"/>
            <p:cNvSpPr/>
            <p:nvPr/>
          </p:nvSpPr>
          <p:spPr>
            <a:xfrm>
              <a:off x="785880" y="4786200"/>
              <a:ext cx="7650000" cy="1568520"/>
            </a:xfrm>
            <a:custGeom>
              <a:avLst/>
              <a:gdLst>
                <a:gd name="textAreaLeft" fmla="*/ 0 w 7650000"/>
                <a:gd name="textAreaRight" fmla="*/ 7650360 w 765000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85" y="0"/>
                  </a:lnTo>
                  <a:lnTo>
                    <a:pt x="21600" y="10800"/>
                  </a:lnTo>
                  <a:lnTo>
                    <a:pt x="19385" y="21600"/>
                  </a:lnTo>
                  <a:lnTo>
                    <a:pt x="0" y="21600"/>
                  </a:lnTo>
                  <a:lnTo>
                    <a:pt x="2215" y="10800"/>
                  </a:lnTo>
                  <a:close/>
                </a:path>
              </a:pathLst>
            </a:custGeom>
            <a:solidFill>
              <a:srgbClr val="e0873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Нашивка 4"/>
            <p:cNvSpPr/>
            <p:nvPr/>
          </p:nvSpPr>
          <p:spPr>
            <a:xfrm>
              <a:off x="1569960" y="4786200"/>
              <a:ext cx="60818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Это часть речи, которая обозначает предметы и отвечает на вопрос  что делает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хема 8" descr=""/>
          <p:cNvPicPr/>
          <p:nvPr/>
        </p:nvPicPr>
        <p:blipFill>
          <a:blip r:embed="rId1"/>
          <a:stretch/>
        </p:blipFill>
        <p:spPr>
          <a:xfrm>
            <a:off x="0" y="122400"/>
            <a:ext cx="9339120" cy="1083960"/>
          </a:xfrm>
          <a:prstGeom prst="rect">
            <a:avLst/>
          </a:prstGeom>
          <a:ln w="0">
            <a:noFill/>
          </a:ln>
        </p:spPr>
      </p:pic>
      <p:pic>
        <p:nvPicPr>
          <p:cNvPr id="57" name="Схема 6" descr=""/>
          <p:cNvPicPr/>
          <p:nvPr/>
        </p:nvPicPr>
        <p:blipFill>
          <a:blip r:embed="rId2"/>
          <a:stretch/>
        </p:blipFill>
        <p:spPr>
          <a:xfrm>
            <a:off x="1060560" y="1584360"/>
            <a:ext cx="784548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7" descr=""/>
          <p:cNvPicPr/>
          <p:nvPr/>
        </p:nvPicPr>
        <p:blipFill>
          <a:blip r:embed="rId3"/>
          <a:stretch/>
        </p:blipFill>
        <p:spPr>
          <a:xfrm>
            <a:off x="1274760" y="4084560"/>
            <a:ext cx="7631280" cy="14810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9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5840" y="1785960"/>
            <a:ext cx="714240" cy="9208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0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5840" y="4359240"/>
            <a:ext cx="714240" cy="91908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2"/>
          <p:cNvGraphicFramePr/>
          <p:nvPr/>
        </p:nvGraphicFramePr>
        <p:xfrm>
          <a:off x="4429080" y="2855880"/>
          <a:ext cx="1357200" cy="13464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9080" y="2855880"/>
                    <a:ext cx="13572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-30240"/>
            <a:ext cx="9242640" cy="185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6" descr="peo-girl[1]"/>
          <p:cNvPicPr/>
          <p:nvPr/>
        </p:nvPicPr>
        <p:blipFill>
          <a:blip r:embed="rId2"/>
          <a:stretch/>
        </p:blipFill>
        <p:spPr>
          <a:xfrm>
            <a:off x="3191040" y="4643280"/>
            <a:ext cx="2259000" cy="19288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7">
            <a:hlinkClick r:id="rId3" action="ppaction://hlinksldjump"/>
          </p:cNvPr>
          <p:cNvSpPr/>
          <p:nvPr/>
        </p:nvSpPr>
        <p:spPr>
          <a:xfrm>
            <a:off x="428760" y="2643120"/>
            <a:ext cx="2428920" cy="1440000"/>
          </a:xfrm>
          <a:prstGeom prst="wedgeRoundRectCallout">
            <a:avLst>
              <a:gd name="adj1" fmla="val 98935"/>
              <a:gd name="adj2" fmla="val 173851"/>
              <a:gd name="adj3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857920" y="2714760"/>
            <a:ext cx="2500200" cy="1368360"/>
          </a:xfrm>
          <a:prstGeom prst="wedgeRoundRectCallout">
            <a:avLst>
              <a:gd name="adj1" fmla="val -94685"/>
              <a:gd name="adj2" fmla="val 179398"/>
              <a:gd name="adj3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Кто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 action="ppaction://hlinksldjum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5"/>
          <a:stretch/>
        </p:blipFill>
        <p:spPr>
          <a:xfrm>
            <a:off x="0" y="101520"/>
            <a:ext cx="1071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328680"/>
            <a:ext cx="9242640" cy="10191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5840" y="2000160"/>
            <a:ext cx="2908080" cy="11448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000160" y="3071880"/>
            <a:ext cx="259092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5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713040" y="4071960"/>
            <a:ext cx="1889280" cy="9208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6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645160" y="5145120"/>
            <a:ext cx="1444680" cy="92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2"/>
          <p:cNvGraphicFramePr/>
          <p:nvPr/>
        </p:nvGraphicFramePr>
        <p:xfrm>
          <a:off x="571680" y="4071960"/>
          <a:ext cx="2189160" cy="24541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680" y="4071960"/>
                    <a:ext cx="218916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"/>
          <p:cNvGraphicFramePr/>
          <p:nvPr/>
        </p:nvGraphicFramePr>
        <p:xfrm>
          <a:off x="6143760" y="2143080"/>
          <a:ext cx="1677960" cy="221292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43760" y="2143080"/>
                    <a:ext cx="167796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-30240"/>
            <a:ext cx="9242640" cy="1420920"/>
          </a:xfrm>
          <a:prstGeom prst="rect">
            <a:avLst/>
          </a:prstGeom>
          <a:ln w="0">
            <a:noFill/>
          </a:ln>
        </p:spPr>
      </p:pic>
      <p:sp>
        <p:nvSpPr>
          <p:cNvPr id="81" name="Скругленный прямоугольник 2">
            <a:hlinkClick r:id="rId2" action="ppaction://hlinksldjump"/>
          </p:cNvPr>
          <p:cNvSpPr/>
          <p:nvPr/>
        </p:nvSpPr>
        <p:spPr>
          <a:xfrm>
            <a:off x="1143000" y="3214800"/>
            <a:ext cx="564372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Мама, папа, брат, сес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285840" y="4214880"/>
            <a:ext cx="750096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Груша, яблоко, апельсин , лим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428760" y="5500800"/>
            <a:ext cx="728640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Пароход, автобус, вертолет, мет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2"/>
          <p:cNvGraphicFramePr/>
          <p:nvPr/>
        </p:nvGraphicFramePr>
        <p:xfrm>
          <a:off x="8215200" y="0"/>
          <a:ext cx="663840" cy="1487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15200" y="0"/>
                    <a:ext cx="663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3643200" y="1285920"/>
          <a:ext cx="1714680" cy="180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3200" y="1285920"/>
                    <a:ext cx="17146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-30240"/>
            <a:ext cx="9242640" cy="142092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1143000" y="3214800"/>
            <a:ext cx="564372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Мама, папа, брат, сес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285840" y="4214880"/>
            <a:ext cx="750096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Груша, яблоко, апельсин , лим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428760" y="5500800"/>
            <a:ext cx="728640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Пароход, автобус, вертолет, мет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8215200" y="0"/>
          <a:ext cx="663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15200" y="0"/>
                    <a:ext cx="663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3"/>
          <p:cNvGraphicFramePr/>
          <p:nvPr/>
        </p:nvGraphicFramePr>
        <p:xfrm>
          <a:off x="3643200" y="1285920"/>
          <a:ext cx="1714680" cy="1801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43200" y="1285920"/>
                    <a:ext cx="17146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347760"/>
            <a:ext cx="9169200" cy="13525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3" descr=""/>
          <p:cNvPicPr/>
          <p:nvPr/>
        </p:nvPicPr>
        <p:blipFill>
          <a:blip r:embed="rId2"/>
          <a:stretch/>
        </p:blipFill>
        <p:spPr>
          <a:xfrm>
            <a:off x="2773440" y="1847880"/>
            <a:ext cx="3157560" cy="9446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4" descr=""/>
          <p:cNvPicPr/>
          <p:nvPr/>
        </p:nvPicPr>
        <p:blipFill>
          <a:blip r:embed="rId3"/>
          <a:stretch/>
        </p:blipFill>
        <p:spPr>
          <a:xfrm>
            <a:off x="2414520" y="3060720"/>
            <a:ext cx="3827520" cy="9446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5" descr=""/>
          <p:cNvPicPr/>
          <p:nvPr/>
        </p:nvPicPr>
        <p:blipFill>
          <a:blip r:embed="rId4"/>
          <a:stretch/>
        </p:blipFill>
        <p:spPr>
          <a:xfrm>
            <a:off x="3560760" y="4133880"/>
            <a:ext cx="1633680" cy="9446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5"/>
          <a:stretch/>
        </p:blipFill>
        <p:spPr>
          <a:xfrm>
            <a:off x="3133800" y="5273640"/>
            <a:ext cx="2651040" cy="9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3"/>
          <p:cNvGraphicFramePr/>
          <p:nvPr/>
        </p:nvGraphicFramePr>
        <p:xfrm>
          <a:off x="6357960" y="3714840"/>
          <a:ext cx="2322360" cy="2428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57960" y="3714840"/>
                    <a:ext cx="232236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icture 2" descr="C:\Users\Надежда\Desktop\faq_news_jpg.jpg"/>
          <p:cNvPicPr/>
          <p:nvPr/>
        </p:nvPicPr>
        <p:blipFill>
          <a:blip r:embed="rId8"/>
          <a:stretch/>
        </p:blipFill>
        <p:spPr>
          <a:xfrm>
            <a:off x="285840" y="41432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в конец 11">
            <a:hlinkClick r:id="" action="ppaction://hlinkshowjump?jump=lastslide"/>
          </p:cNvPr>
          <p:cNvSpPr/>
          <p:nvPr/>
        </p:nvSpPr>
        <p:spPr>
          <a:xfrm>
            <a:off x="8215200" y="6286680"/>
            <a:ext cx="928800" cy="571320"/>
          </a:xfrm>
          <a:custGeom>
            <a:avLst/>
            <a:gdLst>
              <a:gd name="textAreaLeft" fmla="*/ 36720 w 928800"/>
              <a:gd name="textAreaRight" fmla="*/ 892080 w 9288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5107" h="21600">
                <a:moveTo>
                  <a:pt x="0" y="0"/>
                </a:moveTo>
                <a:lnTo>
                  <a:pt x="35107" y="0"/>
                </a:lnTo>
                <a:lnTo>
                  <a:pt x="35107" y="21600"/>
                </a:lnTo>
                <a:lnTo>
                  <a:pt x="0" y="21600"/>
                </a:lnTo>
                <a:close/>
              </a:path>
              <a:path fill="lightenLess" w="35107" h="21600">
                <a:moveTo>
                  <a:pt x="0" y="0"/>
                </a:moveTo>
                <a:lnTo>
                  <a:pt x="35107" y="0"/>
                </a:lnTo>
                <a:lnTo>
                  <a:pt x="33707" y="1400"/>
                </a:lnTo>
                <a:lnTo>
                  <a:pt x="1400" y="1400"/>
                </a:lnTo>
                <a:close/>
              </a:path>
              <a:path fill="darken" w="35107" h="21600">
                <a:moveTo>
                  <a:pt x="35107" y="0"/>
                </a:moveTo>
                <a:lnTo>
                  <a:pt x="35107" y="21600"/>
                </a:lnTo>
                <a:lnTo>
                  <a:pt x="33707" y="20200"/>
                </a:lnTo>
                <a:lnTo>
                  <a:pt x="33707" y="1400"/>
                </a:lnTo>
                <a:close/>
              </a:path>
              <a:path fill="darkenLess" w="35107" h="21600">
                <a:moveTo>
                  <a:pt x="35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7" y="20200"/>
                </a:lnTo>
                <a:close/>
              </a:path>
              <a:path fill="lighten" w="35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7" h="21600">
                <a:moveTo>
                  <a:pt x="21052" y="10800"/>
                </a:moveTo>
                <a:lnTo>
                  <a:pt x="10547" y="17806"/>
                </a:lnTo>
                <a:lnTo>
                  <a:pt x="10547" y="3794"/>
                </a:lnTo>
                <a:close/>
              </a:path>
              <a:path fill="darken" w="35107" h="21600">
                <a:moveTo>
                  <a:pt x="22897" y="3794"/>
                </a:moveTo>
                <a:lnTo>
                  <a:pt x="22897" y="17806"/>
                </a:lnTo>
                <a:lnTo>
                  <a:pt x="24560" y="17806"/>
                </a:lnTo>
                <a:lnTo>
                  <a:pt x="24560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8" descr="MAGIC"/>
          <p:cNvPicPr/>
          <p:nvPr/>
        </p:nvPicPr>
        <p:blipFill>
          <a:blip r:embed="rId1"/>
          <a:stretch/>
        </p:blipFill>
        <p:spPr>
          <a:xfrm>
            <a:off x="2286000" y="2143080"/>
            <a:ext cx="5832360" cy="37292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29"/>
          <p:cNvSpPr txBox="1"/>
          <p:nvPr/>
        </p:nvSpPr>
        <p:spPr>
          <a:xfrm>
            <a:off x="4572000" y="3929040"/>
            <a:ext cx="2857680" cy="6508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09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8101080" y="6286680"/>
            <a:ext cx="1042920" cy="571320"/>
          </a:xfrm>
          <a:custGeom>
            <a:avLst/>
            <a:gdLst>
              <a:gd name="textAreaLeft" fmla="*/ 36720 w 1042920"/>
              <a:gd name="textAreaRight" fmla="*/ 1006200 w 10429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9419" h="21600">
                <a:moveTo>
                  <a:pt x="0" y="0"/>
                </a:moveTo>
                <a:lnTo>
                  <a:pt x="39419" y="0"/>
                </a:lnTo>
                <a:lnTo>
                  <a:pt x="39419" y="21600"/>
                </a:lnTo>
                <a:lnTo>
                  <a:pt x="0" y="21600"/>
                </a:lnTo>
                <a:close/>
              </a:path>
              <a:path fill="lightenLess" w="39419" h="21600">
                <a:moveTo>
                  <a:pt x="0" y="0"/>
                </a:moveTo>
                <a:lnTo>
                  <a:pt x="39419" y="0"/>
                </a:lnTo>
                <a:lnTo>
                  <a:pt x="38019" y="1400"/>
                </a:lnTo>
                <a:lnTo>
                  <a:pt x="1400" y="1400"/>
                </a:lnTo>
                <a:close/>
              </a:path>
              <a:path fill="darken" w="39419" h="21600">
                <a:moveTo>
                  <a:pt x="39419" y="0"/>
                </a:moveTo>
                <a:lnTo>
                  <a:pt x="39419" y="21600"/>
                </a:lnTo>
                <a:lnTo>
                  <a:pt x="38019" y="20200"/>
                </a:lnTo>
                <a:lnTo>
                  <a:pt x="38019" y="1400"/>
                </a:lnTo>
                <a:close/>
              </a:path>
              <a:path fill="darkenLess" w="39419" h="21600">
                <a:moveTo>
                  <a:pt x="39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19" y="20200"/>
                </a:lnTo>
                <a:close/>
              </a:path>
              <a:path fill="lighten" w="39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19" h="21600">
                <a:moveTo>
                  <a:pt x="12703" y="7493"/>
                </a:moveTo>
                <a:lnTo>
                  <a:pt x="16210" y="7493"/>
                </a:lnTo>
                <a:lnTo>
                  <a:pt x="16210" y="12828"/>
                </a:lnTo>
                <a:cubicBezTo>
                  <a:pt x="16210" y="13751"/>
                  <a:pt x="17011" y="14482"/>
                  <a:pt x="18047" y="14482"/>
                </a:cubicBezTo>
                <a:lnTo>
                  <a:pt x="19709" y="14482"/>
                </a:lnTo>
                <a:cubicBezTo>
                  <a:pt x="20745" y="14482"/>
                  <a:pt x="21546" y="13751"/>
                  <a:pt x="21546" y="12828"/>
                </a:cubicBezTo>
                <a:lnTo>
                  <a:pt x="21546" y="7493"/>
                </a:lnTo>
                <a:lnTo>
                  <a:pt x="19709" y="7493"/>
                </a:lnTo>
                <a:lnTo>
                  <a:pt x="23217" y="3985"/>
                </a:lnTo>
                <a:lnTo>
                  <a:pt x="26890" y="7493"/>
                </a:lnTo>
                <a:lnTo>
                  <a:pt x="25053" y="7493"/>
                </a:lnTo>
                <a:lnTo>
                  <a:pt x="25053" y="12828"/>
                </a:lnTo>
                <a:cubicBezTo>
                  <a:pt x="25053" y="15596"/>
                  <a:pt x="22477" y="18155"/>
                  <a:pt x="19709" y="18155"/>
                </a:cubicBezTo>
                <a:lnTo>
                  <a:pt x="18047" y="18155"/>
                </a:lnTo>
                <a:cubicBezTo>
                  <a:pt x="15279" y="18155"/>
                  <a:pt x="12703" y="15596"/>
                  <a:pt x="12703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2:28:34Z</dcterms:created>
  <dc:creator>Киреев Дмитрий</dc:creator>
  <dc:description/>
  <dc:language>en-US</dc:language>
  <cp:lastModifiedBy>Пользователь Windows</cp:lastModifiedBy>
  <dcterms:modified xsi:type="dcterms:W3CDTF">2022-06-19T19:02:04Z</dcterms:modified>
  <cp:revision>21</cp:revision>
  <dc:subject/>
  <dc:title>Слайд 1</dc:title>
</cp:coreProperties>
</file>